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6F1A5-533A-4003-BA06-29FA57AC1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9F47-C4A0-4B60-A8D8-01CC3F170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FBC19-F449-41B2-9977-9010BCEA2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A0E11-1BBB-47E7-9B0E-274862128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2F72E-6943-446D-A32F-F8F68EE9E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972A-DB7D-4336-B6B3-70DF2802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112AE-1E5D-4EBE-9F04-A3F12D11C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3C898-9D61-4345-947B-B5EAD057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D906-3EA7-467A-B128-79EB1348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5425-BE40-40E4-8910-1B36F80E6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61C8-E031-4579-B9FD-74575594C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583BE-5BA9-4A44-B9FF-6071AEFE8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DAF4-3A63-4612-BD77-5164B264E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vfUNnJfdwpw&amp;feature=related"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1828800"/>
          <a:ext cx="8839440" cy="4630680"/>
        </p:xfrm>
        <a:graphic>
          <a:graphicData uri="http://schemas.openxmlformats.org/drawingml/2006/table">
            <a:tbl>
              <a:tblPr/>
              <a:tblGrid>
                <a:gridCol w="762120"/>
                <a:gridCol w="6781680"/>
                <a:gridCol w="1295640"/>
              </a:tblGrid>
              <a:tr h="4269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n – Teaching and Learning Activiti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ources Require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720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Introduction </a:t>
                      </a:r>
                      <a:endParaRPr b="0" lang="en-US" sz="1100" spc="-1" strike="noStrike">
                        <a:solidFill>
                          <a:srgbClr val="000000"/>
                        </a:solidFill>
                        <a:latin typeface="Arial"/>
                      </a:endParaRPr>
                    </a:p>
                    <a:p>
                      <a:pPr marL="533520" indent="-53352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ic Video:  Into Temptation (Crowded House) will introduce today’s topic. </a:t>
                      </a:r>
                      <a:r>
                        <a:rPr b="0" lang="en-US" sz="1100" spc="-1" strike="noStrike" u="sng">
                          <a:solidFill>
                            <a:srgbClr val="009999"/>
                          </a:solidFill>
                          <a:uFillTx/>
                          <a:latin typeface="Arial"/>
                          <a:hlinkClick r:id="rId1"/>
                        </a:rPr>
                        <a:t>http://www.youtube.com/watch?v=vfUNnJfdwpw&amp;feature=related</a:t>
                      </a:r>
                      <a:endParaRPr b="0" lang="en-US" sz="1100" spc="-1" strike="noStrike">
                        <a:solidFill>
                          <a:srgbClr val="000000"/>
                        </a:solidFill>
                        <a:latin typeface="Arial"/>
                      </a:endParaRPr>
                    </a:p>
                    <a:p>
                      <a:pPr marL="533520" indent="-533520">
                        <a:spcBef>
                          <a:spcPts val="2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nk/Pair/Share – Have students think of times when they were tempted.   What do students identify as a guilty pleasure?  Is it impulsive?  What criteria qualifies a guilty pleas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ptop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CD Projector</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aker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lent Reading</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th &amp; Meaning text pages 19-21.</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nesis 3: 1-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th &amp; Meaning Tex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bl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 mi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lass will be divided into groups and will be assigned the following challenge:</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One (3 people)  -  Choral Reading from Myth &amp; Meaning</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Two (3 people) – Choral Reading from Genesis</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Three (4 people)  – CBC Evening News (outside the Gates of the Garden of Eden)</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ter Mansbridge, Adam, Eve, Serpent</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Four – (6 people) – “The View” Interview “Man Falls Into Temptation”</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panelists, Adam, Prometheus, Zeus</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 Five – (6 people) – “The View” Interview “Women at Fault”</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ree panelists, Zeus, Eve, Pandora</a:t>
                      </a: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33520" indent="-5335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student will receive a critical challenge describing their mission and grou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itical Challenge Handou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2" name="Text Box 38"/>
          <p:cNvSpPr/>
          <p:nvPr/>
        </p:nvSpPr>
        <p:spPr>
          <a:xfrm>
            <a:off x="0" y="0"/>
            <a:ext cx="9144000" cy="1584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tholog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role of Temptation in the Evolution of Humanit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Goal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tation is an evil force responsible for the downfall of humankind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upt nature of humanity lends itself vulnerable to the evils of temptation.</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tinue to battle temptation on a daily bas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152280" y="7632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emptation Challenge</a:t>
            </a:r>
            <a:endParaRPr b="0" lang="en-US" sz="2000" spc="-1" strike="noStrike">
              <a:solidFill>
                <a:srgbClr val="000000"/>
              </a:solidFill>
              <a:latin typeface="Arial"/>
            </a:endParaRPr>
          </a:p>
        </p:txBody>
      </p:sp>
      <p:pic>
        <p:nvPicPr>
          <p:cNvPr id="44" name="Picture 2" descr="http://www.healthhabits.ca/wp-content/uploads/2011/01/peter_mansbridge.jpg"/>
          <p:cNvPicPr/>
          <p:nvPr/>
        </p:nvPicPr>
        <p:blipFill>
          <a:blip r:embed="rId1"/>
          <a:stretch/>
        </p:blipFill>
        <p:spPr>
          <a:xfrm>
            <a:off x="380880" y="4203720"/>
            <a:ext cx="990720" cy="990720"/>
          </a:xfrm>
          <a:prstGeom prst="rect">
            <a:avLst/>
          </a:prstGeom>
          <a:ln w="0">
            <a:noFill/>
          </a:ln>
        </p:spPr>
      </p:pic>
      <p:sp>
        <p:nvSpPr>
          <p:cNvPr id="45" name="TextBox 3"/>
          <p:cNvSpPr/>
          <p:nvPr/>
        </p:nvSpPr>
        <p:spPr>
          <a:xfrm>
            <a:off x="117360" y="584280"/>
            <a:ext cx="861084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One – A Choral Reading: </a:t>
            </a:r>
            <a:r>
              <a:rPr b="1" lang="en-US" sz="1200" spc="-1" strike="noStrike">
                <a:solidFill>
                  <a:srgbClr val="000000"/>
                </a:solidFill>
                <a:latin typeface="Arial"/>
              </a:rPr>
              <a:t>  </a:t>
            </a:r>
            <a:r>
              <a:rPr b="0" lang="en-US" sz="1200" spc="-1" strike="noStrike">
                <a:solidFill>
                  <a:srgbClr val="000000"/>
                </a:solidFill>
                <a:latin typeface="Arial"/>
              </a:rPr>
              <a:t>Myth &amp; Meaning text pages 19-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Ryan, Marina, Antho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Deliver a choral reading of the Pandora and Prometheus stories.  Your presentation should be entertaining, interesting, clear, and creative!  There may be lines where you read as a group, and other lines where there is a soloist.  Think about the text, its meaning and what you feel should be emphasized and explored.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Two – A Choral Reading:</a:t>
            </a:r>
            <a:r>
              <a:rPr b="1" lang="en-US" sz="1200" spc="-1" strike="noStrike">
                <a:solidFill>
                  <a:srgbClr val="000000"/>
                </a:solidFill>
                <a:latin typeface="Arial"/>
              </a:rPr>
              <a:t>  </a:t>
            </a:r>
            <a:r>
              <a:rPr b="0" lang="en-US" sz="1200" spc="-1" strike="noStrike">
                <a:solidFill>
                  <a:srgbClr val="000000"/>
                </a:solidFill>
                <a:latin typeface="Arial"/>
              </a:rPr>
              <a:t>Genesis 3: 1-2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Jadelyn, Jason, Allis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Deliver a choral reading of the Garden of Eden story.  Your presentation should be entertaining, interesting, clear, and creative!  There may be lines where you read as a group, and other lines where there is a soloist.  Think about the text, its meaning and what you feel should be emphasized and explored.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Three – CBC Evening News: </a:t>
            </a:r>
            <a:r>
              <a:rPr b="1" lang="en-US" sz="1200" spc="-1" strike="noStrike">
                <a:solidFill>
                  <a:srgbClr val="000000"/>
                </a:solidFill>
                <a:latin typeface="Arial"/>
              </a:rPr>
              <a:t> </a:t>
            </a:r>
            <a:r>
              <a:rPr b="0" lang="en-US" sz="1200" spc="-1" strike="noStrike">
                <a:solidFill>
                  <a:srgbClr val="000000"/>
                </a:solidFill>
                <a:latin typeface="Arial"/>
              </a:rPr>
              <a:t>Reporting from outside the Gates of The Garden of E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Imagine Adam and Eve have just been kicked out of the Garden of Eden for falling into temptation of the forbidden fruit tree.  Peter Mansbridge is reporting live from just outside the Gates of The Garden of Eden and covering live footage of the exchanges made between Adam, Eve and the Serpent.  In order to make this an authentic and believable production, you must make your characters credible in thought, words and action.  Please be creative and feel free to dress the part.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TextBox 4"/>
          <p:cNvSpPr/>
          <p:nvPr/>
        </p:nvSpPr>
        <p:spPr>
          <a:xfrm>
            <a:off x="1600200" y="4191120"/>
            <a:ext cx="6248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Fady, Paul, Sydney D, L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Mansbri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p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152280" y="7632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emptation Challenge</a:t>
            </a:r>
            <a:endParaRPr b="0" lang="en-US" sz="2000" spc="-1" strike="noStrike">
              <a:solidFill>
                <a:srgbClr val="000000"/>
              </a:solidFill>
              <a:latin typeface="Arial"/>
            </a:endParaRPr>
          </a:p>
        </p:txBody>
      </p:sp>
      <p:sp>
        <p:nvSpPr>
          <p:cNvPr id="48" name="TextBox 3"/>
          <p:cNvSpPr/>
          <p:nvPr/>
        </p:nvSpPr>
        <p:spPr>
          <a:xfrm>
            <a:off x="0" y="685800"/>
            <a:ext cx="899172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Four – The View</a:t>
            </a:r>
            <a:r>
              <a:rPr b="1" lang="en-US" sz="1200" spc="-1" strike="noStrike">
                <a:solidFill>
                  <a:srgbClr val="000000"/>
                </a:solidFill>
                <a:latin typeface="Arial"/>
              </a:rPr>
              <a:t>   </a:t>
            </a:r>
            <a:r>
              <a:rPr b="0" lang="en-US" sz="1200" spc="-1" strike="noStrike">
                <a:solidFill>
                  <a:srgbClr val="000000"/>
                </a:solidFill>
                <a:latin typeface="Arial"/>
              </a:rPr>
              <a:t>Interview:  “Man Falls Into Temp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The View is doing an interview entitled “Man Falls Into Temptation.”  The producers have asked Adam, Prometheus and Zeus to appear on the show.  Develop a skit  that reflects your character’s personality, opinions on the topic, and experience with the topic.  The panelists should ask relevant questions and consider the audience need for information, clarity, and entertainment.  You are encouraged to dress the part and embrace your role.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roup Five – The View</a:t>
            </a:r>
            <a:r>
              <a:rPr b="1" lang="en-US" sz="1200" spc="-1" strike="noStrike">
                <a:solidFill>
                  <a:srgbClr val="000000"/>
                </a:solidFill>
                <a:latin typeface="Arial"/>
              </a:rPr>
              <a:t>   </a:t>
            </a:r>
            <a:r>
              <a:rPr b="0" lang="en-US" sz="1200" spc="-1" strike="noStrike">
                <a:solidFill>
                  <a:srgbClr val="000000"/>
                </a:solidFill>
                <a:latin typeface="Arial"/>
              </a:rPr>
              <a:t>Interview:</a:t>
            </a:r>
            <a:r>
              <a:rPr b="1" lang="en-US" sz="1200" spc="-1" strike="noStrike">
                <a:solidFill>
                  <a:srgbClr val="000000"/>
                </a:solidFill>
                <a:latin typeface="Arial"/>
              </a:rPr>
              <a:t> </a:t>
            </a:r>
            <a:r>
              <a:rPr b="0" lang="en-US" sz="1200" spc="-1" strike="noStrike">
                <a:solidFill>
                  <a:srgbClr val="000000"/>
                </a:solidFill>
                <a:latin typeface="Arial"/>
              </a:rPr>
              <a:t>“Women at Fa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hallenge:  The View is doing an interview entitled “Women at Fault.”  The producers have asked Eve, Pandora and Zeus to appear on the show.  Develop a skit  that reflects your character’s personality, opinions on the topic, and experience with the topic.  The panelists should ask relevant questions and consider the audience need for information, clarity, and entertainment.  You are encouraged to dress the part and embrace your role.  Good Lu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Box 5"/>
          <p:cNvSpPr/>
          <p:nvPr/>
        </p:nvSpPr>
        <p:spPr>
          <a:xfrm>
            <a:off x="2743200" y="1143000"/>
            <a:ext cx="603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Nick, Bobby, Robbie, Cheyanne, Chloe, Nic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h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p:txBody>
      </p:sp>
      <p:pic>
        <p:nvPicPr>
          <p:cNvPr id="50" name="Picture 2" descr=""/>
          <p:cNvPicPr/>
          <p:nvPr/>
        </p:nvPicPr>
        <p:blipFill>
          <a:blip r:embed="rId1"/>
          <a:stretch/>
        </p:blipFill>
        <p:spPr>
          <a:xfrm>
            <a:off x="533520" y="1230480"/>
            <a:ext cx="1828800" cy="1436400"/>
          </a:xfrm>
          <a:prstGeom prst="rect">
            <a:avLst/>
          </a:prstGeom>
          <a:ln w="0">
            <a:noFill/>
          </a:ln>
        </p:spPr>
      </p:pic>
      <p:sp>
        <p:nvSpPr>
          <p:cNvPr id="51" name="TextBox 7"/>
          <p:cNvSpPr/>
          <p:nvPr/>
        </p:nvSpPr>
        <p:spPr>
          <a:xfrm>
            <a:off x="2743200" y="4002120"/>
            <a:ext cx="603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t members: Alex, Sidney M, Emma, Stephanie, Alexandria, La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w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ist Thr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p:txBody>
      </p:sp>
      <p:pic>
        <p:nvPicPr>
          <p:cNvPr id="52" name="Picture 3" descr=""/>
          <p:cNvPicPr/>
          <p:nvPr/>
        </p:nvPicPr>
        <p:blipFill>
          <a:blip r:embed="rId2"/>
          <a:stretch/>
        </p:blipFill>
        <p:spPr>
          <a:xfrm>
            <a:off x="117360" y="4114800"/>
            <a:ext cx="2549520" cy="11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3:09:35Z</dcterms:created>
  <dc:creator>Savario Galati</dc:creator>
  <dc:description/>
  <dc:language>en-US</dc:language>
  <cp:lastModifiedBy>Savario Galati</cp:lastModifiedBy>
  <dcterms:modified xsi:type="dcterms:W3CDTF">2011-04-12T01:20:27Z</dcterms:modified>
  <cp:revision>120</cp:revision>
  <dc:subject/>
  <dc:title>“My Last Duchess”</dc:title>
</cp:coreProperties>
</file>